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D96-4C23-4519-A543-A09A8C43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4D5-8CC0-46C1-8510-6D0ED22A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C56-B933-43C6-94D3-90354A58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90B-F045-4B38-B543-AE3E3ADC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4F3-8C16-456A-95E6-C72DB8F1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999-A5C7-43F1-9BE5-5D7C9609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254-94F5-4FE0-B96E-C26F971B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E8A-3504-470B-9FCF-6577FE57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E50-6790-46E9-A373-3D8694B7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752-F4C4-46D4-9683-4A1DC43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202-CA0E-4711-B7D2-98A1431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89D-E700-4249-B0D0-DDC8614E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4E96-312E-4784-85A5-0E6FE7402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EXANDER the GR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lexander the Great riding Bucephalus "/>
          <p:cNvPicPr/>
          <p:nvPr/>
        </p:nvPicPr>
        <p:blipFill>
          <a:blip r:embed="rId1"/>
          <a:stretch/>
        </p:blipFill>
        <p:spPr>
          <a:xfrm>
            <a:off x="4114800" y="2057400"/>
            <a:ext cx="502920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ALEXANDER THE GREAT - (356-323 B.C.). King of Macedonia. Posthumous portrait on a silver tetradrachm of Lysimachus, struck at Magnesia-on-the-Meander (Asia Minor), c285 B.C."/>
          <p:cNvPicPr/>
          <p:nvPr/>
        </p:nvPicPr>
        <p:blipFill>
          <a:blip r:embed="rId2"/>
          <a:stretch/>
        </p:blipFill>
        <p:spPr>
          <a:xfrm>
            <a:off x="0" y="2057400"/>
            <a:ext cx="45720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-3960"/>
            <a:ext cx="853452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 Facts about Alexander the G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supposedly related to the Greek heroes Hercules from his father's side and Achilles from his mother's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exander was 16, his father left the country to do battle, leaving Alexander as temporary ruler of Maced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amed a wild horse named Bucephalus when he was a kid. It was his main horse until it died of old age. Alexander named a city in India after his ho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never lost a single bat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end has it that the Temple of Artemis burnt down the day of Alexander's birth because Artemis was busy attending the bi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best friend and second in command was the general Hephaes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80880"/>
            <a:ext cx="66294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edonia was a large state just north of Greece with very little organization and very little power.  Under King Philip it becomes a milita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Macedonia from 359 – 336 BCE, a military genius, Alexander’s father, conquers Greece and begins Macedonia’s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a professional army of full time, well paid, highly skilled soldiers Developed new battle formations and weapons - - - catapults and battering rams on wh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Philip II of Macedonia /Medallion/ C4 BC"/>
          <p:cNvPicPr/>
          <p:nvPr/>
        </p:nvPicPr>
        <p:blipFill>
          <a:blip r:embed="rId1"/>
          <a:stretch/>
        </p:blipFill>
        <p:spPr>
          <a:xfrm>
            <a:off x="6553080" y="1066680"/>
            <a:ext cx="247680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316400"/>
            <a:ext cx="4267080" cy="25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Alexander the Great riding Bucephalus "/>
          <p:cNvPicPr/>
          <p:nvPr/>
        </p:nvPicPr>
        <p:blipFill>
          <a:blip r:embed="rId2"/>
          <a:stretch/>
        </p:blipFill>
        <p:spPr>
          <a:xfrm>
            <a:off x="152280" y="2286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91120" y="228600"/>
            <a:ext cx="4800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lexander’s father is murdered and Alexander rules Macedonia from 336 – 323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quest is victory over others by force and Alexander’s conquest covered over 20,000 square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acedonia never destroyed Greece because they admired and appreciated it and it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ristotle"/>
          <p:cNvPicPr/>
          <p:nvPr/>
        </p:nvPicPr>
        <p:blipFill>
          <a:blip r:embed="rId1"/>
          <a:stretch/>
        </p:blipFill>
        <p:spPr>
          <a:xfrm>
            <a:off x="6324480" y="1522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380880"/>
            <a:ext cx="54864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Aristotle was one of Greece’s greatest philosophers who taught Alexander literature, philosophy, an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Alexander was able to control his Empire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ft Greeks behind to rule conquered 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uld adopt some features from the conquered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uld combine the conquered military with hi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ALEXANDER THE GREAT - (356-326 B.C.). King of Macedonia, 336-323 B.C. Alexander at the siege of Tyre in 332 B.C. Line engraving, 19th century."/>
          <p:cNvPicPr/>
          <p:nvPr/>
        </p:nvPicPr>
        <p:blipFill>
          <a:blip r:embed="rId2"/>
          <a:stretch/>
        </p:blipFill>
        <p:spPr>
          <a:xfrm>
            <a:off x="6400800" y="2819520"/>
            <a:ext cx="2455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Alexander the Great suppressing a rebellion in Greece "/>
          <p:cNvPicPr/>
          <p:nvPr/>
        </p:nvPicPr>
        <p:blipFill>
          <a:blip r:embed="rId1"/>
          <a:stretch/>
        </p:blipFill>
        <p:spPr>
          <a:xfrm>
            <a:off x="228600" y="3352680"/>
            <a:ext cx="3390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9880" y="228600"/>
            <a:ext cx="518184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Alexander’s rule to 146 BCE is known as the Hellenistic Age because Greek influence and culture {language, religion, literature, arts} became so widespread over Alexander’s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Alexander died suddenly of a fever at the age of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After Alexander died his Empire broke apart because no single ruler could keep i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Alexander the Great on Bucephalus "/>
          <p:cNvPicPr/>
          <p:nvPr/>
        </p:nvPicPr>
        <p:blipFill>
          <a:blip r:embed="rId2"/>
          <a:stretch/>
        </p:blipFill>
        <p:spPr>
          <a:xfrm>
            <a:off x="304920" y="152280"/>
            <a:ext cx="31240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6108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9:15:39Z</dcterms:created>
  <dc:creator>gehadde</dc:creator>
  <dc:description/>
  <dc:language>en-US</dc:language>
  <cp:lastModifiedBy>gehadde</cp:lastModifiedBy>
  <dcterms:modified xsi:type="dcterms:W3CDTF">2012-05-08T13:27:03Z</dcterms:modified>
  <cp:revision>19</cp:revision>
  <dc:subject/>
  <dc:title>Warm-Up: #5</dc:title>
</cp:coreProperties>
</file>